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C13-D7ED-419A-B18E-3D63AF9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16A-2976-484D-9336-116C522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9849-63DD-4CC3-9286-0948765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82C49-D794-4414-89E4-18743FC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C5F4-23E5-42A7-8E33-CEFEBF8E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058BE-69C9-4EC0-B1E3-C0A7F52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691E0-23C1-4E52-95E7-87B1C73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8555B-A3D0-438D-A1C9-657DCA7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6F787-9027-44E3-8105-27855C7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51B29-EC08-4DEE-BFCC-F2676850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6B732-A606-484D-A8AD-C28D3355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4BDC-8282-4260-A32D-FE867B2C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6CB-36AB-4C17-858C-851579F3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3BB85-BA5F-475C-BFF5-BA43FF40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0DB7A-0C93-41EC-8E91-7C1414A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759BA-C430-466E-8EC5-F462D473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D0E0C-7F90-440A-8915-FE43D49C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BBECB-2E61-4E73-BB36-42E8F05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2717F-1C80-4F22-8C55-2CFAEF7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C6CE9-EABE-4C5D-8336-E1AE2CA0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02DFA-43B4-4B5F-AB00-750770A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E4F10-38E1-4E36-AE76-0F76C0C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03909-6CD9-4EBE-8FCE-D2D31A95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1A9-687C-4E08-AE9A-A8CDEF3B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4F52E-6112-4B0E-ACFC-94C630EB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89019-8A3F-41D6-A918-0291237C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3FAC8-B5CE-495B-9FA3-BA9C01BF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4FC4E-74C8-4AA5-9BEE-2F9FEC9B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B516-620E-46BE-9B5C-8880A23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8199-3F41-4155-98BE-2C3301A0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0D6B-8DCA-4C52-8533-6930976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D556F-6D41-4779-A5B0-BB496A8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F3072-36EF-498B-B62E-A89D208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ABCCC-EF0A-4E28-96F1-FFC7B1F0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C5ED-0248-4726-B576-5F155237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B831A-4F34-4CF3-B7E3-D1C4E7CB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F955B-0636-4B20-9DA2-26AC43EE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9C644-E0EB-49A3-AA20-AFE131E7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A7E47-E0FC-4EA8-BAE5-03FF14BD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F7F2F-458E-4A6A-B963-B8025704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8824E-B211-4C0A-9BED-C680486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B2FA6-66DD-447B-A00D-FF351F88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A948-2431-4DAA-9BB7-6522908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02F6-242A-43E3-95F0-E7092C6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776A5-0247-4375-9781-B8B6370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EE1E-6792-4B88-826B-BEA28695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A43CD-DF0B-4A8C-AB39-8182512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1786C-AA4A-404C-A8B9-FF55306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2DC0F-8090-45FD-9C58-B4660D1A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8F101-4C63-4100-A970-A1E8BC2C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19189-D5C2-4E5C-9EEA-D513823F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C51D5-DDC4-4843-A65F-8E6091EC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71763-5470-401F-A520-69ED860C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828CE-9A11-4410-BF58-C503DCE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AFC70-9AF4-4A78-8855-ECC2185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1BE1C-D8CC-4AB3-9B07-EE2E5D44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269-330F-4B4F-B396-A99DD4B4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86924-2484-4EC8-AA47-D8054E35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A4854-456B-4757-BEA6-D74F1BA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C1EB9-26E6-45B5-97C0-EA6970D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E23CF-FF21-4858-B6A8-B848181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FEF55-BAE8-4F82-B6EE-CA79E43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77D24-0C7C-4E1A-9942-C2ADA929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CDEF6-4540-4E26-902C-E59B647C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2ABE8-D1E5-4C1D-92CB-5C28C27B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DA5D3-451D-471B-B98A-8E23500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C4303-38A7-43C2-86B3-1CB1CC8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A42-F881-4517-962C-EFF9D357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BADBF-3DFF-4D94-8412-56D1A4E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E407D-520A-48CC-AECF-F451F3B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35866-FF7C-493E-B9EF-15A430E8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52D40-B6F9-4781-8252-EA8BED26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16D54-5F86-4875-97BD-27C0A00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C8D8E-0C9B-419C-B06E-13F38A7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65E2D-7560-403B-AB79-AE98D1E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D59E7-2B54-48DD-9915-72B0E1E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EB058-F5FD-4199-8C61-AE55EAF3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B9426-EA0C-47A0-BBC5-F63D4A74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136-44F0-485B-BFD0-C3D8FD7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1DB42-4219-4E86-B40E-184A0D9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34D2E-9FB3-4F17-BEB0-91A8297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67F25-D692-4000-B126-4DFB7ED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B5A57-6271-4DC4-B7EF-398C4DC1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CD8EF-5E6C-41A6-AEC0-98C22AE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AF07D-5BF1-40E9-A110-027F98B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31B60-A8EB-49EE-8C25-E03EF13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6EDDC-D09C-4A94-82A8-7A1C301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DCC5A-1DAE-4963-96C5-260E96C3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20926-55DF-4F67-A2FA-EC679803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937-6FAD-49C7-8EDE-C60F077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6AF53-73ED-45B6-AC65-3A476CB1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9F2A1-E0D5-4749-9EAA-10BD0A10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5FAE7-B940-43BF-A823-21588C5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AA83A-FA60-4D8D-B3C9-5628A80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515BF-4310-4082-B969-1334012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67D8E-17D8-4051-AB97-095B21AA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E8D06-8654-4B30-9FE4-BB372F32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26089-B56D-4046-87B7-ADA3CAF0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8620B-3762-4473-A271-38AEB6A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E5DB3-D862-4DB4-BC22-D2E2F96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693-DB68-4155-8FA3-37280EC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1F643-F48B-4C00-A281-C9D86C69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6AA2F-0A49-421D-A839-BEF7216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B30B2-31DF-4F7F-8195-31F8C7C4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76139-3B41-4E0B-956C-948C0A72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4B820-8C64-433A-8B77-C42EABBF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26DB2-9161-4ECF-85F7-FF9CF64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DBEA5-6766-417A-83BE-AF03399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FDF8B-7E89-4CD6-98B3-C13BCE4D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1DA7B-B373-4E04-B3DC-EBFA64F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C83C6-490E-42FF-ADC2-68E9FCB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38C-AD2E-4DFB-B4F6-F7D8EA4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E0E9-822D-4BF5-816D-D540F97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D2641-BDC7-4518-8D1E-2B1F6EF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04883-9491-4470-A8FC-FA608A6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A25D7-43EA-4826-BD94-7ED662C2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E6DFA-CB39-4A7E-B560-E377996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9AB2E-9C5D-450E-B17C-8386D6A1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21644-043E-4951-BF0F-A66AC998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88029-CAE7-43C9-8C86-5A41118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769E1-B0D9-4E9C-8711-A9535D5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D0B47-54D7-493A-94BC-D7653BA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AE9CE-1C83-4611-8165-8084286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6144-736D-4957-B3DF-9EA9E7C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69F14-6BF6-4E74-94BD-A03B0FAA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87A1C-B42B-4B3E-918E-A1AEDA5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269D6-DE09-487F-96DE-8E22B10F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B573C-F94D-4305-9B60-280A2EB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6A260-4D3B-40E0-AAC8-7B39AC3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F2151-0850-41EB-B692-E7111E8C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FD88C-422B-4F44-A734-CCB47242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2AD73-807A-4BAB-8E48-EB71A65F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A7C0C-97A2-49AA-B429-F97C3F5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6C94A-7011-4182-BA8B-2C86542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A744-3A69-44B9-8C8A-8C4CDCF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80287-DF53-4D23-BB37-FA8ABC75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62124-5D98-4657-92C3-20CFE8AD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ACB34-A47C-403B-A194-1531BF6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F1E44-2B36-40CE-B98A-A17B131A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01388-CBE3-4D36-89D8-D19CD49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646E3-0DE5-46B5-9472-9E4B904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B62F9-DE52-4B46-8672-18E5AE47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08A1D-C901-47AF-9267-1A04CA70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4C37E-DF4C-4788-8D41-CE4A05C3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612C0-044A-4CAB-AA4E-5A418F2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678-148D-408B-8FB3-E0F068A5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4E97B-ACD8-4D19-B437-6A5CBFD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28564-1068-447B-B3DC-7CA6798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3F6D7-6110-4295-B4E2-9F9DBE5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CB555-E12E-4DBE-A7AF-C211097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CB42E-D0E8-4398-B29E-927FE379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0AC47-A0E9-4018-8162-51476B9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07A89-0B34-4BD5-AC1E-8733339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3C35C-6828-4271-BEC9-710A2CE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B172F-AE14-42D0-998C-D6A2E299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BDD7A-8ECC-4D80-819D-2AFA679F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C1B-E6C3-4F9C-8C3A-3809BDCB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6681E-2AF1-43BB-B825-611BC958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810F9-2A99-43D8-9327-10AB59D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0CAE8-5B93-4A35-80DA-E53B496D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48A4F-9379-4065-817E-7ADF09A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F399D-5865-456C-9670-16B1956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B3AC9-97B5-439E-A21D-5CB9887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90718-FD70-4B84-B5D7-5754806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FE1F6-BED1-4459-8864-C2892BA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02A2A-058A-404A-83D7-A8E2AE0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BC2F8-A45F-4291-BFC8-0E71914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63D5-21DF-44A9-8920-CA0FB5BC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4D672-AEB1-450E-AC01-F1C8AAC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2F22E-5295-49FB-AE57-627EC733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C1173-6F5E-4A41-BC33-99FA8907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A31C-35AE-44A0-9C9E-4F2EE89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ECA4-EFAD-4F9B-A54F-23C279E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C8B1-F800-4087-B8FD-441916C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9906-8ECF-44E3-96AE-E1E56D8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8DA-0A65-449A-90D1-7A96B4E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B3AE-2151-4C71-B14C-D3BC1C0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181B-6269-4403-8D41-E9F2298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7C52-6D7F-4D7F-97DE-9BDC20D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C64A-BEDD-4000-A229-CE55A96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6997-1342-4791-BD80-E582103E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2B76-5A27-44DA-9A74-5C4B75B9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97EC-A44B-4404-94DD-C8CE4E1C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B258-C58F-4990-8844-4A2FDB4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E31E-C434-443E-8B64-3B47E91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687C-257B-4FC2-B7D8-5FA31AC5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D06-BCEC-4EB2-96F2-2D1C930D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CA52-51F3-409C-AA1E-CA736FD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E9B6-A2C0-4F74-AF82-F96FE29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0CA7E-B848-4C4D-9A32-0212726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44A8-4D86-4DE0-AA95-FE5EDD9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987D-A6F0-4440-A42D-4643A2B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8B90E-4A69-4F87-A3FA-23A298C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96A5-53D0-4B0F-9794-47481EC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635C-EF35-4EE0-ABE0-73FC0424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9CD6-7C59-464C-BEB5-C9D81399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6547-2438-47F4-A1F9-B05735E0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0E4-7C99-483C-BE2C-6BB479D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2607-ED82-4CCF-B50A-0C26252D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DB2D-D817-4E7F-B0F3-D540C64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CF7A-0CEA-46E5-A92A-9D8EFCA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BE69-F5A4-4EF1-9B4B-8EC1F537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212A-5C47-47D8-8FD2-AE5EFF2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0A29-55A1-4A14-9A39-E1D797A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72901-D78E-4271-BCB5-C98033E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5FEC-D4D7-483A-947D-9EC7454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8060-A0B4-409D-8589-C30D2822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20D5-DA23-4078-8919-A2699EC3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1A7-F65F-4949-982D-F6FEAEE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BC96-2937-441F-BED8-DD561906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D116-F069-49FF-848B-2E6AE581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53A6-C000-45EC-B297-AC5E223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DB7B-770F-4C6E-BD64-90C1DC6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02EF-58E4-464E-BC9C-37851208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FF3D-1512-45B4-BC5E-994722B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51AF-B7FB-45D3-8ED1-AD623BA2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CB6EB-E605-462E-914F-3234068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92CC-9CDA-4E42-A274-5AD1E82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C698-67D9-49D0-8B6B-9560B15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277-3812-4F41-8ABD-4A33213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4796-AB72-4B7F-AFC3-9304AEB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17B5-8805-496F-B749-37BCDF2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790D-CAF2-4B49-B199-4F9DDE5A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F011-927B-42EB-BE25-B55814C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8079-864E-44F3-BD1A-6F3EA288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FD66-82B9-49A4-99CD-2EA5908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0556-A95F-4342-9338-484C03C3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4C0D-D9C6-47CD-B63F-C6989B3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A987-EC9F-4701-A0A7-1EDDF43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D0DC-F659-4900-86C2-F27758F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9F2-6889-4C83-89E9-413D3F9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06615-24E9-4354-B7FC-FBF1599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7E36-5001-4C7B-BD49-2632DD0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4D697-8453-4797-93BD-B20C1A22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94B1-2AD9-41E4-807C-264353C5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F68AC-B439-4834-8FC7-924A5D5D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2B2CE-2F54-4DE0-A1BE-E1A2D48C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DE8E2-72ED-42FA-943E-58F1BA0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5C2F-79B3-4784-9AE8-1989F13F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7776-56E9-4D62-89FB-11AA097D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BF0C-3495-4C55-B097-D5658B6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DA3-3A2E-4ACA-966A-633D2FA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0624-9A52-4AC1-81B2-046CC7E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ABE1-3BE4-4B37-B86F-7AB2517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CE30-1818-49F6-834C-1EF94ED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28F6-0A4F-4CE3-97AA-FACD257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27D48-317D-4BA2-9EC6-C51E94D4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0AB9-C01C-4BB1-98DF-6EB1C787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AD01-39F0-4369-9DAC-19CD2001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78354-CE71-4C5B-B1F7-BF185D4B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41EB5-E8E1-4C71-B758-DAFCCC4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C6153-774C-4D86-B761-6EEDD282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F067-00CE-4673-AA85-D65715B3A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49AD-5E9E-4BE8-B8B5-6C2832B62C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738-05D3-48AC-BD77-86B8DDEAC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B69-3DF3-4726-A410-DCECC99FE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414-DDF9-4D66-8FA0-C7EE9D92C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0988-B9E7-4507-9541-9FEEC0AF9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F63C-20CC-40A9-87CD-EB4C5AC99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B0E-8028-4881-950C-792C89BB3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246-F7B1-47C9-A6C6-A19593D12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10B2-AD6E-4E42-97C9-A9B0942D7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E68-4277-4BC2-A699-C82904F2F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8EB-0C69-4CF5-A004-03C9886BD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8AFF-ECC6-4961-AB1F-896649B4B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D685-98BD-44F7-A090-A7364412D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DCF-755E-41F4-AF53-5FD0BAB05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077-1E12-4EA2-AF4A-79524D7EA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785-3412-4C99-B26A-8CC7F8113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FFD-F23A-468A-9E2A-F4AB4E335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9A9-E4EB-4DC9-A28E-82BB9C653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9DA-6ED8-4451-8E3B-F4AFBF903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467-C8F1-4DD0-9629-0B02E0474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F38B-35BF-4A92-8727-950F9284C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AE5-9F3D-4FDD-B84D-541311051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0644-9428-4FB9-8CCF-28EBC630F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74A-83BF-4B3B-A3F0-6BBA60505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A02F-6678-4ACB-853B-744BFFD16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6B0-3912-41FC-B74B-2448C13F0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ABA-4E0B-4E54-A419-47B51F9D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938E-21FB-46CF-BA67-64B055E57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F7F-42A8-49EE-837C-038E7BF14B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94E4-88BF-490D-81F0-968B09A51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BC5-2D58-428F-B063-13A4B9620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047-EE7E-49ED-90B2-2AEA92263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EAE6-1679-4588-BD9E-DB8C6627A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E23-1B8D-447E-9095-4075DA8348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99C-D747-4F60-B022-A26736465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F67-E527-4945-BA7E-5545C4C978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014-FB2D-4E3A-9C4D-F7DBDAB31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71FC-497C-4F1E-9C16-7B52582E5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CA0-2550-461D-BC8E-C61C42A2D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824040" y="3081240"/>
            <a:ext cx="74959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6321" descr=""/>
          <p:cNvPicPr/>
          <p:nvPr/>
        </p:nvPicPr>
        <p:blipFill>
          <a:blip r:embed="rId1"/>
          <a:stretch/>
        </p:blipFill>
        <p:spPr>
          <a:xfrm>
            <a:off x="236520" y="843120"/>
            <a:ext cx="8124840" cy="58388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56322"/>
          <p:cNvSpPr/>
          <p:nvPr/>
        </p:nvSpPr>
        <p:spPr>
          <a:xfrm>
            <a:off x="2381400" y="495144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6323"/>
          <p:cNvSpPr/>
          <p:nvPr/>
        </p:nvSpPr>
        <p:spPr>
          <a:xfrm>
            <a:off x="2046240" y="555480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6324"/>
          <p:cNvSpPr/>
          <p:nvPr/>
        </p:nvSpPr>
        <p:spPr>
          <a:xfrm>
            <a:off x="2279520" y="6159600"/>
            <a:ext cx="5897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5297" descr=""/>
          <p:cNvPicPr/>
          <p:nvPr/>
        </p:nvPicPr>
        <p:blipFill>
          <a:blip r:embed="rId1"/>
          <a:stretch/>
        </p:blipFill>
        <p:spPr>
          <a:xfrm>
            <a:off x="728640" y="1009800"/>
            <a:ext cx="7686720" cy="4838400"/>
          </a:xfrm>
          <a:prstGeom prst="rect">
            <a:avLst/>
          </a:prstGeom>
          <a:ln w="0">
            <a:noFill/>
          </a:ln>
        </p:spPr>
      </p:pic>
      <p:sp>
        <p:nvSpPr>
          <p:cNvPr id="1042" name="矩形 55298"/>
          <p:cNvSpPr/>
          <p:nvPr/>
        </p:nvSpPr>
        <p:spPr>
          <a:xfrm>
            <a:off x="1400040" y="3390840"/>
            <a:ext cx="50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5299"/>
          <p:cNvSpPr/>
          <p:nvPr/>
        </p:nvSpPr>
        <p:spPr>
          <a:xfrm>
            <a:off x="1182600" y="408636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5300"/>
          <p:cNvSpPr/>
          <p:nvPr/>
        </p:nvSpPr>
        <p:spPr>
          <a:xfrm>
            <a:off x="1006560" y="470700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5301"/>
          <p:cNvSpPr/>
          <p:nvPr/>
        </p:nvSpPr>
        <p:spPr>
          <a:xfrm>
            <a:off x="981000" y="5310360"/>
            <a:ext cx="74660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3" descr=""/>
          <p:cNvPicPr/>
          <p:nvPr/>
        </p:nvPicPr>
        <p:blipFill>
          <a:blip r:embed="rId1"/>
          <a:stretch/>
        </p:blipFill>
        <p:spPr>
          <a:xfrm>
            <a:off x="361800" y="898560"/>
            <a:ext cx="8077320" cy="47530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54274"/>
          <p:cNvSpPr/>
          <p:nvPr/>
        </p:nvSpPr>
        <p:spPr>
          <a:xfrm>
            <a:off x="762120" y="4549680"/>
            <a:ext cx="77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4275"/>
          <p:cNvSpPr/>
          <p:nvPr/>
        </p:nvSpPr>
        <p:spPr>
          <a:xfrm>
            <a:off x="711360" y="5153040"/>
            <a:ext cx="77007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3249" descr=""/>
          <p:cNvPicPr/>
          <p:nvPr/>
        </p:nvPicPr>
        <p:blipFill>
          <a:blip r:embed="rId1"/>
          <a:stretch/>
        </p:blipFill>
        <p:spPr>
          <a:xfrm>
            <a:off x="282600" y="941400"/>
            <a:ext cx="8048520" cy="2943360"/>
          </a:xfrm>
          <a:prstGeom prst="rect">
            <a:avLst/>
          </a:prstGeom>
          <a:ln w="0">
            <a:noFill/>
          </a:ln>
        </p:spPr>
      </p:pic>
      <p:sp>
        <p:nvSpPr>
          <p:cNvPr id="1050" name="矩形 53250"/>
          <p:cNvSpPr/>
          <p:nvPr/>
        </p:nvSpPr>
        <p:spPr>
          <a:xfrm>
            <a:off x="593640" y="216540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3251"/>
          <p:cNvSpPr/>
          <p:nvPr/>
        </p:nvSpPr>
        <p:spPr>
          <a:xfrm>
            <a:off x="527040" y="277020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3252"/>
          <p:cNvSpPr/>
          <p:nvPr/>
        </p:nvSpPr>
        <p:spPr>
          <a:xfrm>
            <a:off x="450720" y="3382920"/>
            <a:ext cx="7902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25" descr=""/>
          <p:cNvPicPr/>
          <p:nvPr/>
        </p:nvPicPr>
        <p:blipFill>
          <a:blip r:embed="rId1"/>
          <a:stretch/>
        </p:blipFill>
        <p:spPr>
          <a:xfrm>
            <a:off x="282600" y="944640"/>
            <a:ext cx="8048520" cy="17049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52226" descr=""/>
          <p:cNvPicPr/>
          <p:nvPr/>
        </p:nvPicPr>
        <p:blipFill>
          <a:blip r:embed="rId2"/>
          <a:stretch/>
        </p:blipFill>
        <p:spPr>
          <a:xfrm>
            <a:off x="663480" y="2735280"/>
            <a:ext cx="7648560" cy="21906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52227"/>
          <p:cNvSpPr/>
          <p:nvPr/>
        </p:nvSpPr>
        <p:spPr>
          <a:xfrm>
            <a:off x="652320" y="265284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2228"/>
          <p:cNvSpPr/>
          <p:nvPr/>
        </p:nvSpPr>
        <p:spPr>
          <a:xfrm>
            <a:off x="542880" y="327348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2229"/>
          <p:cNvSpPr/>
          <p:nvPr/>
        </p:nvSpPr>
        <p:spPr>
          <a:xfrm>
            <a:off x="552600" y="3868560"/>
            <a:ext cx="7851600" cy="3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2230"/>
          <p:cNvSpPr/>
          <p:nvPr/>
        </p:nvSpPr>
        <p:spPr>
          <a:xfrm>
            <a:off x="534960" y="4464000"/>
            <a:ext cx="785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1201" descr=""/>
          <p:cNvPicPr/>
          <p:nvPr/>
        </p:nvPicPr>
        <p:blipFill>
          <a:blip r:embed="rId1"/>
          <a:stretch/>
        </p:blipFill>
        <p:spPr>
          <a:xfrm>
            <a:off x="141120" y="1027080"/>
            <a:ext cx="8143920" cy="2943360"/>
          </a:xfrm>
          <a:prstGeom prst="rect">
            <a:avLst/>
          </a:prstGeom>
          <a:ln w="0">
            <a:noFill/>
          </a:ln>
        </p:spPr>
      </p:pic>
      <p:sp>
        <p:nvSpPr>
          <p:cNvPr id="1060" name="矩形 51202"/>
          <p:cNvSpPr/>
          <p:nvPr/>
        </p:nvSpPr>
        <p:spPr>
          <a:xfrm>
            <a:off x="752400" y="225756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1203"/>
          <p:cNvSpPr/>
          <p:nvPr/>
        </p:nvSpPr>
        <p:spPr>
          <a:xfrm>
            <a:off x="642960" y="283680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1204"/>
          <p:cNvSpPr/>
          <p:nvPr/>
        </p:nvSpPr>
        <p:spPr>
          <a:xfrm>
            <a:off x="558720" y="3465360"/>
            <a:ext cx="76834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50177" descr=""/>
          <p:cNvPicPr/>
          <p:nvPr/>
        </p:nvPicPr>
        <p:blipFill>
          <a:blip r:embed="rId1"/>
          <a:stretch/>
        </p:blipFill>
        <p:spPr>
          <a:xfrm>
            <a:off x="447840" y="1192320"/>
            <a:ext cx="81435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73731" descr=""/>
          <p:cNvPicPr/>
          <p:nvPr/>
        </p:nvPicPr>
        <p:blipFill>
          <a:blip r:embed="rId1"/>
          <a:stretch/>
        </p:blipFill>
        <p:spPr>
          <a:xfrm>
            <a:off x="428760" y="1093680"/>
            <a:ext cx="80485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475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10576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75777" descr=""/>
          <p:cNvPicPr/>
          <p:nvPr/>
        </p:nvPicPr>
        <p:blipFill>
          <a:blip r:embed="rId1"/>
          <a:stretch/>
        </p:blipFill>
        <p:spPr>
          <a:xfrm>
            <a:off x="512640" y="982800"/>
            <a:ext cx="8153640" cy="35431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5778" descr=""/>
          <p:cNvPicPr/>
          <p:nvPr/>
        </p:nvPicPr>
        <p:blipFill>
          <a:blip r:embed="rId2"/>
          <a:stretch/>
        </p:blipFill>
        <p:spPr>
          <a:xfrm>
            <a:off x="449280" y="4565520"/>
            <a:ext cx="8124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399960" y="981000"/>
            <a:ext cx="7610400" cy="51339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810480" y="2055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6801" descr=""/>
          <p:cNvPicPr/>
          <p:nvPr/>
        </p:nvPicPr>
        <p:blipFill>
          <a:blip r:embed="rId1"/>
          <a:stretch/>
        </p:blipFill>
        <p:spPr>
          <a:xfrm>
            <a:off x="528480" y="824040"/>
            <a:ext cx="8087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7782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964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94209" descr=""/>
          <p:cNvPicPr/>
          <p:nvPr/>
        </p:nvPicPr>
        <p:blipFill>
          <a:blip r:embed="rId1"/>
          <a:stretch/>
        </p:blipFill>
        <p:spPr>
          <a:xfrm>
            <a:off x="318960" y="905040"/>
            <a:ext cx="80298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93185" descr=""/>
          <p:cNvPicPr/>
          <p:nvPr/>
        </p:nvPicPr>
        <p:blipFill>
          <a:blip r:embed="rId1"/>
          <a:stretch/>
        </p:blipFill>
        <p:spPr>
          <a:xfrm>
            <a:off x="476280" y="1130400"/>
            <a:ext cx="81914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92161" descr=""/>
          <p:cNvPicPr/>
          <p:nvPr/>
        </p:nvPicPr>
        <p:blipFill>
          <a:blip r:embed="rId1"/>
          <a:stretch/>
        </p:blipFill>
        <p:spPr>
          <a:xfrm>
            <a:off x="1023840" y="1054080"/>
            <a:ext cx="746784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92162" descr=""/>
          <p:cNvPicPr/>
          <p:nvPr/>
        </p:nvPicPr>
        <p:blipFill>
          <a:blip r:embed="rId2"/>
          <a:stretch/>
        </p:blipFill>
        <p:spPr>
          <a:xfrm>
            <a:off x="396720" y="1622520"/>
            <a:ext cx="8039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91137" descr=""/>
          <p:cNvPicPr/>
          <p:nvPr/>
        </p:nvPicPr>
        <p:blipFill>
          <a:blip r:embed="rId1"/>
          <a:stretch/>
        </p:blipFill>
        <p:spPr>
          <a:xfrm>
            <a:off x="514440" y="1123920"/>
            <a:ext cx="8115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90113" descr=""/>
          <p:cNvPicPr/>
          <p:nvPr/>
        </p:nvPicPr>
        <p:blipFill>
          <a:blip r:embed="rId1"/>
          <a:stretch/>
        </p:blipFill>
        <p:spPr>
          <a:xfrm>
            <a:off x="336600" y="942840"/>
            <a:ext cx="8077320" cy="4048200"/>
          </a:xfrm>
          <a:prstGeom prst="rect">
            <a:avLst/>
          </a:prstGeom>
          <a:ln w="0">
            <a:noFill/>
          </a:ln>
        </p:spPr>
      </p:pic>
      <p:sp>
        <p:nvSpPr>
          <p:cNvPr id="1076" name="矩形 90114"/>
          <p:cNvSpPr/>
          <p:nvPr/>
        </p:nvSpPr>
        <p:spPr>
          <a:xfrm>
            <a:off x="896760" y="212400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90115"/>
          <p:cNvSpPr/>
          <p:nvPr/>
        </p:nvSpPr>
        <p:spPr>
          <a:xfrm>
            <a:off x="720720" y="270360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0116"/>
          <p:cNvSpPr/>
          <p:nvPr/>
        </p:nvSpPr>
        <p:spPr>
          <a:xfrm>
            <a:off x="730080" y="389412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0117"/>
          <p:cNvSpPr/>
          <p:nvPr/>
        </p:nvSpPr>
        <p:spPr>
          <a:xfrm>
            <a:off x="730080" y="4489560"/>
            <a:ext cx="7693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89089" descr=""/>
          <p:cNvPicPr/>
          <p:nvPr/>
        </p:nvPicPr>
        <p:blipFill>
          <a:blip r:embed="rId1"/>
          <a:stretch/>
        </p:blipFill>
        <p:spPr>
          <a:xfrm>
            <a:off x="219240" y="1130400"/>
            <a:ext cx="8057880" cy="2257200"/>
          </a:xfrm>
          <a:prstGeom prst="rect">
            <a:avLst/>
          </a:prstGeom>
          <a:ln w="0">
            <a:noFill/>
          </a:ln>
        </p:spPr>
      </p:pic>
      <p:sp>
        <p:nvSpPr>
          <p:cNvPr id="1081" name="矩形 89090"/>
          <p:cNvSpPr/>
          <p:nvPr/>
        </p:nvSpPr>
        <p:spPr>
          <a:xfrm>
            <a:off x="1568520" y="17049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88065" descr=""/>
          <p:cNvPicPr/>
          <p:nvPr/>
        </p:nvPicPr>
        <p:blipFill>
          <a:blip r:embed="rId1"/>
          <a:stretch/>
        </p:blipFill>
        <p:spPr>
          <a:xfrm>
            <a:off x="345960" y="1017720"/>
            <a:ext cx="8210520" cy="4105080"/>
          </a:xfrm>
          <a:prstGeom prst="rect">
            <a:avLst/>
          </a:prstGeom>
          <a:ln w="0">
            <a:noFill/>
          </a:ln>
        </p:spPr>
      </p:pic>
      <p:sp>
        <p:nvSpPr>
          <p:cNvPr id="1083" name="矩形 88066"/>
          <p:cNvSpPr/>
          <p:nvPr/>
        </p:nvSpPr>
        <p:spPr>
          <a:xfrm>
            <a:off x="1081080" y="4019400"/>
            <a:ext cx="7508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88067"/>
          <p:cNvSpPr/>
          <p:nvPr/>
        </p:nvSpPr>
        <p:spPr>
          <a:xfrm>
            <a:off x="1096920" y="4614840"/>
            <a:ext cx="7508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87041" descr=""/>
          <p:cNvPicPr/>
          <p:nvPr/>
        </p:nvPicPr>
        <p:blipFill>
          <a:blip r:embed="rId1"/>
          <a:stretch/>
        </p:blipFill>
        <p:spPr>
          <a:xfrm>
            <a:off x="169920" y="984240"/>
            <a:ext cx="8105760" cy="3591000"/>
          </a:xfrm>
          <a:prstGeom prst="rect">
            <a:avLst/>
          </a:prstGeom>
          <a:ln w="0">
            <a:noFill/>
          </a:ln>
        </p:spPr>
      </p:pic>
      <p:sp>
        <p:nvSpPr>
          <p:cNvPr id="1086" name="矩形 87042"/>
          <p:cNvSpPr/>
          <p:nvPr/>
        </p:nvSpPr>
        <p:spPr>
          <a:xfrm>
            <a:off x="728640" y="158760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87043"/>
          <p:cNvSpPr/>
          <p:nvPr/>
        </p:nvSpPr>
        <p:spPr>
          <a:xfrm>
            <a:off x="603360" y="218268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87044"/>
          <p:cNvSpPr/>
          <p:nvPr/>
        </p:nvSpPr>
        <p:spPr>
          <a:xfrm>
            <a:off x="636480" y="2762280"/>
            <a:ext cx="7777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87045"/>
          <p:cNvSpPr/>
          <p:nvPr/>
        </p:nvSpPr>
        <p:spPr>
          <a:xfrm>
            <a:off x="603360" y="337356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87046"/>
          <p:cNvSpPr/>
          <p:nvPr/>
        </p:nvSpPr>
        <p:spPr>
          <a:xfrm>
            <a:off x="511200" y="3952800"/>
            <a:ext cx="777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426960" y="1003320"/>
            <a:ext cx="80488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62465" descr=""/>
          <p:cNvPicPr/>
          <p:nvPr/>
        </p:nvPicPr>
        <p:blipFill>
          <a:blip r:embed="rId1"/>
          <a:stretch/>
        </p:blipFill>
        <p:spPr>
          <a:xfrm>
            <a:off x="325440" y="979560"/>
            <a:ext cx="8153280" cy="33433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62466"/>
          <p:cNvSpPr/>
          <p:nvPr/>
        </p:nvSpPr>
        <p:spPr>
          <a:xfrm>
            <a:off x="6105600" y="97488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1441" descr=""/>
          <p:cNvPicPr/>
          <p:nvPr/>
        </p:nvPicPr>
        <p:blipFill>
          <a:blip r:embed="rId1"/>
          <a:stretch/>
        </p:blipFill>
        <p:spPr>
          <a:xfrm>
            <a:off x="311040" y="977760"/>
            <a:ext cx="8163000" cy="28004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61442" descr=""/>
          <p:cNvPicPr/>
          <p:nvPr/>
        </p:nvPicPr>
        <p:blipFill>
          <a:blip r:embed="rId2"/>
          <a:stretch/>
        </p:blipFill>
        <p:spPr>
          <a:xfrm>
            <a:off x="363600" y="3851280"/>
            <a:ext cx="8058240" cy="26766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61443"/>
          <p:cNvSpPr/>
          <p:nvPr/>
        </p:nvSpPr>
        <p:spPr>
          <a:xfrm>
            <a:off x="7078680" y="100800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60417" descr=""/>
          <p:cNvPicPr/>
          <p:nvPr/>
        </p:nvPicPr>
        <p:blipFill>
          <a:blip r:embed="rId1"/>
          <a:stretch/>
        </p:blipFill>
        <p:spPr>
          <a:xfrm>
            <a:off x="190440" y="1036800"/>
            <a:ext cx="8096400" cy="39812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60418"/>
          <p:cNvSpPr/>
          <p:nvPr/>
        </p:nvSpPr>
        <p:spPr>
          <a:xfrm>
            <a:off x="5191200" y="105876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9393" descr=""/>
          <p:cNvPicPr/>
          <p:nvPr/>
        </p:nvPicPr>
        <p:blipFill>
          <a:blip r:embed="rId1"/>
          <a:stretch/>
        </p:blipFill>
        <p:spPr>
          <a:xfrm>
            <a:off x="301680" y="1090440"/>
            <a:ext cx="8096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8369" descr=""/>
          <p:cNvPicPr/>
          <p:nvPr/>
        </p:nvPicPr>
        <p:blipFill>
          <a:blip r:embed="rId1"/>
          <a:stretch/>
        </p:blipFill>
        <p:spPr>
          <a:xfrm>
            <a:off x="235080" y="954000"/>
            <a:ext cx="8076960" cy="3409920"/>
          </a:xfrm>
          <a:prstGeom prst="rect">
            <a:avLst/>
          </a:prstGeom>
          <a:ln w="0">
            <a:noFill/>
          </a:ln>
        </p:spPr>
      </p:pic>
      <p:sp>
        <p:nvSpPr>
          <p:cNvPr id="1035" name="矩形 58371"/>
          <p:cNvSpPr/>
          <p:nvPr/>
        </p:nvSpPr>
        <p:spPr>
          <a:xfrm>
            <a:off x="4529160" y="982800"/>
            <a:ext cx="411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7345" descr=""/>
          <p:cNvPicPr/>
          <p:nvPr/>
        </p:nvPicPr>
        <p:blipFill>
          <a:blip r:embed="rId1"/>
          <a:stretch/>
        </p:blipFill>
        <p:spPr>
          <a:xfrm>
            <a:off x="512640" y="1006560"/>
            <a:ext cx="80679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9:56:35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